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F90C4-D188-4EA9-A445-187B55C34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54F6-EFBB-4EF2-A985-8AB8F7804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09F4B-FFFF-4E28-8399-C56E1788A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02ACA-0B5D-4D14-ABB0-1B65ACF51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DA21D-F287-4677-B2A3-F77085298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9B092-6024-4C23-A55F-A7F31095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FA62D-9CAC-4AD1-8B46-04D2DEB1E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E6AB1-D45E-4163-92C3-A3642A345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6524F-E9A4-4D69-865A-1B2DE28A5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A10C-3212-4BFD-87E8-20331D65D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4DC6-8C65-4D03-8FE0-BA4CD0F64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8758-D912-452B-9DFB-C9C18A01C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F953-C435-4E52-A814-2762E05907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mujer: el trabajo en el </a:t>
            </a:r>
            <a:br>
              <a:rPr sz="4400"/>
            </a:br>
            <a:r>
              <a:rPr b="0" lang="es-ES_tradnl" sz="4400" spc="-1" strike="noStrike">
                <a:solidFill>
                  <a:srgbClr val="000000"/>
                </a:solidFill>
                <a:latin typeface="Times New Roman"/>
              </a:rPr>
              <a:t>mercado laboral y en el hog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centaje de personas divorciada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1143000" y="874800"/>
            <a:ext cx="7470720" cy="59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medio de años de educación</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914400" y="820800"/>
            <a:ext cx="7539120" cy="603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qué aumenta la tasa de actividad femenina en el correr de los años?</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Cambio generacional de comportamiento, particularmente en las mujeres casadas y en los niveles educativos medi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Aumento generacional de los niveles educa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A</a:t>
            </a:r>
            <a:r>
              <a:rPr b="0" lang="es-ES" sz="2000" spc="-1" strike="noStrike">
                <a:solidFill>
                  <a:srgbClr val="000000"/>
                </a:solidFill>
                <a:latin typeface="Times New Roman"/>
                <a:ea typeface="Times New Roman"/>
              </a:rPr>
              <a:t>umento generacional de la incidencia del divorcio</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rPr>
              <a:t>La actividad laboral de las mujeres en el mercado de trabajo es mayor para las mujeres divorciadas que para las casadas. ¿Hay un aumento de la actividad por cambios de situación conyugar? ¿O las casadas activas son las que se divorcia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qué aumenta la tasa de actividad femenina en el correr de los años?</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Ocurrieron otro cambios generacionales acord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stergación de la primer unió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stergación del nacimiento del primer hij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enor número de hijo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guntas</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Qué variables determinan que una mujer sea activa o inactiva? El interés del análisis radica en las casada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s mujeres inactivas, ¿lo son en forma transitoria o jamás ingresan al mercado de trabaj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Si la inactividad es transitoria, o sea las mujeres entran y salen del mercado de trabajo ¿cuál es el motiv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uál es el peso del cuidado del hogar?</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iste un comportamiento de “trabajador añadido”?</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I. Las mujeres casadas y la actividad labor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rupo de mujeres en análisis</a:t>
            </a:r>
            <a:endParaRPr b="0"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l mismo signo fueron encontrados en diversos estudi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ste caso, los resultados refieren a las mujere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sadas (incluye unión libre) de la pareja “principal”, o sea, jefe del hogar o cónyuge del jefe</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 cónyuge activo</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nores de 60 año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restricciones económicas</a:t>
            </a:r>
            <a:br>
              <a:rPr sz="2800"/>
            </a:br>
            <a:br>
              <a:rPr sz="2800"/>
            </a:br>
            <a:r>
              <a:rPr b="1" lang="es-ES_tradnl" sz="2400" spc="-1" strike="noStrike">
                <a:solidFill>
                  <a:srgbClr val="000000"/>
                </a:solidFill>
                <a:latin typeface="Times New Roman"/>
              </a:rPr>
              <a:t>La probabilidad de ser activa es mayor ...</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Cuanto menor el nivel de ingresos del entorno familiar</a:t>
            </a:r>
            <a:r>
              <a:rPr b="0" lang="es-ES_tradnl" sz="3600" spc="-1" strike="noStrike">
                <a:solidFill>
                  <a:srgbClr val="000000"/>
                </a:solidFill>
                <a:latin typeface="Arial"/>
                <a:ea typeface="Arial"/>
              </a:rPr>
              <a:t> </a:t>
            </a:r>
            <a:endParaRPr b="0" lang="en-US" sz="36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lario del cónyuge</a:t>
            </a:r>
            <a:endParaRPr b="0" lang="en-US" sz="2400" spc="-1" strike="noStrike">
              <a:solidFill>
                <a:srgbClr val="000000"/>
              </a:solidFill>
              <a:latin typeface="Times New Roman"/>
            </a:endParaRPr>
          </a:p>
          <a:p>
            <a:pPr lvl="1" marL="735480" indent="-2829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esto de los ingresos del hogar</a:t>
            </a:r>
            <a:r>
              <a:rPr b="0" lang="es-ES_tradnl"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uanto menor el valor de la vivienda (indicador del patrimonio)</a:t>
            </a: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uanto mayor el salario que le ofrece el mercado de trabajo</a:t>
            </a: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estructura y tamaño del hogar</a:t>
            </a:r>
            <a:br>
              <a:rPr sz="2800"/>
            </a:br>
            <a:br>
              <a:rPr sz="2800"/>
            </a:br>
            <a:r>
              <a:rPr b="1" lang="es-ES_tradnl" sz="2400" spc="-1" strike="noStrike">
                <a:solidFill>
                  <a:srgbClr val="000000"/>
                </a:solidFill>
                <a:latin typeface="Times New Roman"/>
              </a:rPr>
              <a:t>La probabilidad de ser activa es mayor ...</a:t>
            </a:r>
            <a:endParaRPr b="0" lang="en-US" sz="2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ando no hay hijos o cuando el hijo más chico tiene más de 5 años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a probabilidad de ser activa de una mujer sin hijos, es 19 puntos porcentuales superior al de una mujer en que el tercer integrante es un hijo menor de tres años. Cuando el  hijo menor tiene de tres a cinco años, la diferencia es de 11 puntos.</a:t>
            </a:r>
            <a:r>
              <a:rPr b="0" lang="es-ES" sz="2000" spc="-1" strike="noStrike">
                <a:solidFill>
                  <a:srgbClr val="000000"/>
                </a:solidFill>
                <a:latin typeface="Times New Roman"/>
              </a:rPr>
              <a:t> </a:t>
            </a:r>
            <a:r>
              <a:rPr b="0" lang="es-ES_tradnl" sz="2000" spc="-1" strike="noStrike">
                <a:solidFill>
                  <a:srgbClr val="000000"/>
                </a:solidFill>
                <a:latin typeface="Times New Roman"/>
              </a:rPr>
              <a:t>No hay diferencias cuando tiene seis años o má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ando hay en el hogar una persona de la generación anterior</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Su presencia aumenta la probabilidad en tres puntos porcentuales. Ello sugiere que los adultos mayores “liberan” tiempo de la mujer en las tareas del hogar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Algo similar ocurre cuando se considera la presencia de otro integrante del hogar (familiar o no familiar), en que la probabilidad se eleva en cuatro puntos porcentuales con respecto a la mujer que vive solamente con su cónyuge.</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acterísticas de la mujer</a:t>
            </a:r>
            <a:br>
              <a:rPr sz="2800"/>
            </a:br>
            <a:br>
              <a:rPr sz="2800"/>
            </a:br>
            <a:r>
              <a:rPr b="1" lang="es-ES_tradnl" sz="2400" spc="-1" strike="noStrike">
                <a:solidFill>
                  <a:srgbClr val="000000"/>
                </a:solidFill>
                <a:latin typeface="Times New Roman"/>
              </a:rPr>
              <a:t>La probabilidad de ser activa es mayor ...</a:t>
            </a:r>
            <a:endParaRPr b="0" lang="en-US" sz="2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a las más jóvene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anto  menor el nivel educativo, menor el salario de reserva. Es la posibilidad de obtener un salario de mercado mayor lo que explica mayores tasas de actividad para las mujeres de mayor nivel educativ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a las mujeres en unión consensual (versus matrimonio lega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s interpretaciones: la unión consensual es una manifestación de cambio de comportamiento; el casamiento legal refleja mayor estabilidad y mayor acuerdo para la especialización de tar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quema de la presentación</a:t>
            </a:r>
            <a:endParaRPr b="0" lang="en-US" sz="28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	</a:t>
            </a:r>
            <a:r>
              <a:rPr b="0" lang="es-ES_tradnl" sz="2000" spc="-1" strike="noStrike">
                <a:solidFill>
                  <a:srgbClr val="000000"/>
                </a:solidFill>
                <a:latin typeface="Times New Roman"/>
              </a:rPr>
              <a:t>I. El cambio de la tasa de actividad</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I. Las mujeres casadas y la actividad labor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II. Las interrupciones de la vida labor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V. El trabajo en el hog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babilidad de ingresar a la PEA según cambios en el estado ocupacional del cónyuge</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762120" y="1703520"/>
            <a:ext cx="8381880" cy="515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esempleo del cónyuge</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probabilidad de ser activa es mayor cuando el cónyuge está desocupad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hay evidencia de que el desempleo de la mujer esté correlacionado con el de su cónyu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hay correlación entre el salario de la mujer y el estado ocupacional del cónyu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mportamiento de “trabajador añadido” es una estrategia que permite amortiguar la caída de los ingresos frente al desemple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II. Las interrupciones de la vida labor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salidas transitorias del mercado de trabajo</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cuesta a mujeres de 25 a 54 años del Gran Montevideo en 2001 con reconstrucción de historia laboral y conyugal</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asa de actividad al momento de la encuesta fue 74%</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3"/>
          <p:cNvSpPr>
            <a:spLocks noGrp="1"/>
          </p:cNvSpPr>
          <p:nvPr>
            <p:ph/>
          </p:nvPr>
        </p:nvSpPr>
        <p:spPr>
          <a:xfrm>
            <a:off x="685800" y="3276360"/>
            <a:ext cx="7848720" cy="2514600"/>
          </a:xfrm>
          <a:prstGeom prst="rect">
            <a:avLst/>
          </a:prstGeom>
          <a:noFill/>
          <a:ln w="0">
            <a:noFill/>
          </a:ln>
        </p:spPr>
        <p:txBody>
          <a:bodyPr lIns="90000" rIns="90000" tIns="46800" bIns="46800" anchor="t">
            <a:normAutofit fontScale="87000"/>
          </a:bodyPr>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lamente el 5% de las mujeres nunca trabajó </a:t>
            </a:r>
            <a:endParaRPr b="0" lang="en-US" sz="2000" spc="-1" strike="noStrike">
              <a:solidFill>
                <a:srgbClr val="000000"/>
              </a:solidFill>
              <a:latin typeface="Times New Roman"/>
            </a:endParaRPr>
          </a:p>
          <a:p>
            <a:pPr marL="298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  proporción cae cuanto mayor nivel educativo: 10% para las mujeres con primaria y 2% para las que realizaron estudios terciarios</a:t>
            </a:r>
            <a:endParaRPr b="0" lang="en-US" sz="2000" spc="-1" strike="noStrike">
              <a:solidFill>
                <a:srgbClr val="000000"/>
              </a:solidFill>
              <a:latin typeface="Times New Roman"/>
            </a:endParaRPr>
          </a:p>
          <a:p>
            <a:pPr marL="298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proporción de mujeres que ha experimentado interrupciones en su vida laboral alcanza a 55%</a:t>
            </a:r>
            <a:endParaRPr b="0" lang="en-US" sz="2000" spc="-1" strike="noStrike">
              <a:solidFill>
                <a:srgbClr val="000000"/>
              </a:solidFill>
              <a:latin typeface="Times New Roman"/>
            </a:endParaRPr>
          </a:p>
          <a:p>
            <a:pPr marL="298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mujeres de menor nivel educativo han interrumpido su vida laboral  en mayor medida que las de mayor nivel (60% y 45%)</a:t>
            </a:r>
            <a:endParaRPr b="0" lang="en-US" sz="20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ón que originó la ruptura del último vínculo laboral.</a:t>
            </a:r>
            <a:r>
              <a:rPr b="0" lang="es-ES_tradnl" sz="2800" spc="-1" strike="noStrike">
                <a:solidFill>
                  <a:srgbClr val="000000"/>
                </a:solidFill>
                <a:latin typeface="Arial"/>
              </a:rPr>
              <a:t> </a:t>
            </a:r>
            <a:r>
              <a:rPr b="0" lang="es-ES_tradnl" sz="2000" spc="-1" strike="noStrike">
                <a:solidFill>
                  <a:srgbClr val="000000"/>
                </a:solidFill>
                <a:latin typeface="Times New Roman"/>
              </a:rPr>
              <a:t>En porcentaje.</a:t>
            </a:r>
            <a:endParaRPr b="0" lang="en-US" sz="2000" spc="-1" strike="noStrike">
              <a:solidFill>
                <a:srgbClr val="000000"/>
              </a:solidFill>
              <a:latin typeface="Times New Roman"/>
            </a:endParaRPr>
          </a:p>
        </p:txBody>
      </p:sp>
      <p:graphicFrame>
        <p:nvGraphicFramePr>
          <p:cNvPr id="85" name=""/>
          <p:cNvGraphicFramePr/>
          <p:nvPr/>
        </p:nvGraphicFramePr>
        <p:xfrm>
          <a:off x="685800" y="1981080"/>
          <a:ext cx="7772400" cy="4157640"/>
        </p:xfrm>
        <a:graphic>
          <a:graphicData uri="http://schemas.openxmlformats.org/drawingml/2006/table">
            <a:tbl>
              <a:tblPr/>
              <a:tblGrid>
                <a:gridCol w="2514600"/>
                <a:gridCol w="914400"/>
                <a:gridCol w="1066680"/>
                <a:gridCol w="1143000"/>
                <a:gridCol w="1067040"/>
                <a:gridCol w="10666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 a 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er. cic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º cic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er. cic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mbarazo y cuidado de hij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7.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8.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7.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idado de la famil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érdida del emple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8.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V. El trabajo en el hog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iénes realizan las tareas?</a:t>
            </a:r>
            <a:endParaRPr b="0" lang="en-US" sz="28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s tareas incluidas fueron: hacer las compras, dar de comer a los niños, decidir qué comer, lavar los platos, limpiar la casa y lavar la ropa, llevar y traer a los niños a la escuela, pagar las cuentas, hacer pequeñas reparaciones en el hogar</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e acuerdo a sus declaraciones, las entrevistadas son las personas sobre las que en mayor medida recaen las tareas doméstica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 participación de los cónyuges es baja en actividades como la limpieza del hogar y el lavado de platos, las cuales han sido consideradas tradicionalmente como femeninas. Son más altas en pagar cuentas y hacer reparacione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rsonas que participan en tareas. Hogares de entrevistada activa.</a:t>
            </a:r>
            <a:r>
              <a:rPr b="0" lang="es-ES_tradnl" sz="4400" spc="-1" strike="noStrike">
                <a:solidFill>
                  <a:srgbClr val="000000"/>
                </a:solidFill>
                <a:latin typeface="Times New Roman"/>
              </a:rPr>
              <a:t> </a:t>
            </a:r>
            <a:r>
              <a:rPr b="0" lang="es-ES_tradnl" sz="2000" spc="-1" strike="noStrike">
                <a:solidFill>
                  <a:srgbClr val="000000"/>
                </a:solidFill>
                <a:latin typeface="Times New Roman"/>
              </a:rPr>
              <a:t>En porcentaje.</a:t>
            </a:r>
            <a:endParaRPr b="0" lang="en-US" sz="2000" spc="-1" strike="noStrike">
              <a:solidFill>
                <a:srgbClr val="000000"/>
              </a:solidFill>
              <a:latin typeface="Times New Roman"/>
            </a:endParaRPr>
          </a:p>
        </p:txBody>
      </p:sp>
      <p:graphicFrame>
        <p:nvGraphicFramePr>
          <p:cNvPr id="90" name=""/>
          <p:cNvGraphicFramePr/>
          <p:nvPr/>
        </p:nvGraphicFramePr>
        <p:xfrm>
          <a:off x="685800" y="1981080"/>
          <a:ext cx="7772400" cy="4129200"/>
        </p:xfrm>
        <a:graphic>
          <a:graphicData uri="http://schemas.openxmlformats.org/drawingml/2006/table">
            <a:tbl>
              <a:tblPr/>
              <a:tblGrid>
                <a:gridCol w="1676520"/>
                <a:gridCol w="1523880"/>
                <a:gridCol w="1600200"/>
                <a:gridCol w="1295280"/>
                <a:gridCol w="16765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var los plato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impiar la cas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gar las cuent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cer reparacion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uj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ej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9.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5.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dre,mad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ij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ij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iénes realizan las tareas?</a:t>
            </a:r>
            <a:endParaRPr b="0" lang="en-US" sz="28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 participación de las hijas en los quehaceres domésticos es mayor que la de los hijos varones, constatándose que los hogares tienden a reproducir la  división tradicional del trabaj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Sin embargo, los cónyuges aumentan su participación entre las generaciones más recientes </a:t>
            </a:r>
            <a:r>
              <a:rPr b="0" lang="es-ES_tradnl" sz="1800" spc="-1" strike="noStrike">
                <a:solidFill>
                  <a:srgbClr val="000000"/>
                </a:solidFill>
                <a:latin typeface="Times New Roman"/>
                <a:ea typeface="Times New Roman"/>
              </a:rPr>
              <a:t>(lavar platos: 11% para el grupo de 45 a 54; 19% para el grupo de 25 a 34)</a:t>
            </a:r>
            <a:endParaRPr b="0" lang="en-US" sz="18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El corte por nivel educativo distingue muy poco las responsabilidades de las mujere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les</a:t>
            </a:r>
            <a:endParaRPr b="0" lang="en-US" sz="28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inactivas se componen de un grupo que jamás ingresó al mercado de trabajo, en particular para las mujeres de bajo nivel educativo. Pero existe un componente de inactividad transitoria. Las mujeres entran y salen del mercado de trabajo.</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motivación para interrumpir: el cuidado del hogar, en particular de los hijos. Esto se ilustra tanto en el impacto de presencia de los hijos pequeños sobre la probabilidad de ser activa como en las propias declaraciones de la mujer</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motivación para reingresar: ¿los hijos crece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motivación para ingresar (o reingresar): comportamiento de trabajador añadi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 El cambio de la tasa de activ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qué importa la salida del mercado de trabajo para cuidar a la familia?</a:t>
            </a:r>
            <a:endParaRPr b="0" lang="en-US" sz="28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salida del mercado laboral implica un costo en términos salariales para todo el ciclo de v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divorcio tiene un costo mayor para las mujeres que realizan interrupciones laborales. Cabe señalar que el sistema de transferencias no parece estar funcionando en forma adecua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aumento de la incidencia del divorcio, se espera una disminución generacional de las interrupciones laborales. ¿Ello está ocurriendo? ¿Es más probable el divorcio entre quienes no interrumpier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tasa de actividad femenina. Porcentajes</a:t>
            </a:r>
            <a:endParaRPr b="0" lang="en-US" sz="2800" spc="-1" strike="noStrike">
              <a:solidFill>
                <a:srgbClr val="000000"/>
              </a:solidFill>
              <a:latin typeface="Times New Roman"/>
            </a:endParaRPr>
          </a:p>
        </p:txBody>
      </p:sp>
      <p:graphicFrame>
        <p:nvGraphicFramePr>
          <p:cNvPr id="46" name=""/>
          <p:cNvGraphicFramePr/>
          <p:nvPr/>
        </p:nvGraphicFramePr>
        <p:xfrm>
          <a:off x="685800" y="1981080"/>
          <a:ext cx="7772400" cy="4338720"/>
        </p:xfrm>
        <a:graphic>
          <a:graphicData uri="http://schemas.openxmlformats.org/drawingml/2006/table">
            <a:tbl>
              <a:tblPr/>
              <a:tblGrid>
                <a:gridCol w="1943280"/>
                <a:gridCol w="1942920"/>
                <a:gridCol w="1943280"/>
                <a:gridCol w="1942920"/>
              </a:tblGrid>
              <a:tr h="679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ís urba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ontevide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i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9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7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8.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8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8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0,5</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5,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36,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3,5</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7,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39,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9,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5,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ómo reconstruir historias de vida con las Encuestas de Hogares?</a:t>
            </a:r>
            <a:endParaRPr b="0" lang="en-US" sz="2800" spc="-1" strike="noStrike">
              <a:solidFill>
                <a:srgbClr val="000000"/>
              </a:solidFill>
              <a:latin typeface="Times New Roman"/>
            </a:endParaRPr>
          </a:p>
        </p:txBody>
      </p:sp>
      <p:sp>
        <p:nvSpPr>
          <p:cNvPr id="48" name="PlaceHolder 2"/>
          <p:cNvSpPr>
            <a:spLocks noGrp="1"/>
          </p:cNvSpPr>
          <p:nvPr>
            <p:ph/>
          </p:nvPr>
        </p:nvSpPr>
        <p:spPr>
          <a:xfrm>
            <a:off x="304560" y="1371600"/>
            <a:ext cx="8381880" cy="5486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sando una serie de encuestas, se puede realizar una aproximación al ciclo de vida de distintas generacion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 para la generación 1960 con las encuestas de los años 1986-1991</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dad</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9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91</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eer gráficas de pseudo-pane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realiza una curva para cada generació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l eje horizontal aparece la eda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información de 1986-1997 describe el comportamiento de las generaciones recientes en sus edades jóvenes; cuanto más vieja la generación, describe el comportamiento en una edad más avanza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lo tanto, las curvas más hacia la izquierda corresponde a generaciones más jóv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sas de actividad entre 14 y 60 año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1066680" y="820800"/>
            <a:ext cx="7539120" cy="6037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asa de actividad por estado conyugal</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990720" y="820800"/>
            <a:ext cx="7538760" cy="603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asa de actividad por nivel  educativo</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1066680" y="820800"/>
            <a:ext cx="7539120" cy="603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7T14:20:24Z</dcterms:created>
  <dc:creator>IE</dc:creator>
  <dc:description/>
  <dc:language>en-US</dc:language>
  <cp:lastModifiedBy>HK</cp:lastModifiedBy>
  <dcterms:modified xsi:type="dcterms:W3CDTF">2002-09-25T00:41:50Z</dcterms:modified>
  <cp:revision>166</cp:revision>
  <dc:subject/>
  <dc:title>Presentación de PowerPoint</dc:title>
</cp:coreProperties>
</file>